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12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0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2658-E420-41F0-BC43-7CC1198FC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B894-F85A-4A90-A83A-EDBC9D5B6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B5A6-EDA9-4356-BE81-B2681E829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9880-03C1-44E5-80C2-51A3F601F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A33B2-BFB3-4969-8CDF-2575F5FAE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CA6D5-633A-464F-BA1F-1BE51F4D8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0D883-2BF2-497E-B57C-D89920565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8C082-5FEC-4277-94CB-18E2BCF4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17B09-2A9C-437C-8EEC-8DF7149D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E3344-5EE6-43E6-BFE4-3DBFEF7CF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7D682-63C0-4A60-8E5D-BB6D7278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CCF2-CFCD-49D8-9320-8C5644D5E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129F7-D4D6-4FB4-A062-7BDE0730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23B55-2A54-4528-8D12-33F10F81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AD4CF-823D-4F13-84F7-327FD1C58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39BD2-A9B0-4E53-BEA8-584CB2752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95097-EAFE-4956-AEB9-34C1D4975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8A00-F092-4172-910D-1E74BF1F8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C273-FEF0-43C3-8C53-61067420D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0F62-103C-4F49-AE52-AB6B11E4C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9450-8621-458E-9B80-EFD31D6B1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8527-8528-402F-B6E6-D6DB50BA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074C-5A43-419C-844E-0B2D8501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E803-8A88-4551-9E4D-FA64B041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ECD13-F085-416C-8FC9-7EDBCDB1ACA1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D645D-0673-4E18-BB50-56D150E0F039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www.youtube.com/watch?v=LTAnlHLTtKY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1337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ffffff"/>
                </a:solidFill>
                <a:latin typeface="Book Antiqua"/>
              </a:rPr>
              <a:t>Călătorie in trecutul istoric al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ffffff"/>
                </a:solidFill>
                <a:latin typeface="Book Antiqua"/>
              </a:rPr>
              <a:t>neamului  românesc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85" name="Content Placeholder 4" descr="Decebal.gif"/>
          <p:cNvPicPr/>
          <p:nvPr/>
        </p:nvPicPr>
        <p:blipFill>
          <a:blip r:embed="rId2"/>
          <a:stretch/>
        </p:blipFill>
        <p:spPr>
          <a:xfrm>
            <a:off x="285840" y="2930400"/>
            <a:ext cx="4209840" cy="1943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464832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Book Antiqua"/>
              </a:rPr>
              <a:t>Eroi au fost , eroi sunt încă,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Book Antiqua"/>
              </a:rPr>
              <a:t>         </a:t>
            </a:r>
            <a:r>
              <a:rPr b="0" lang="ro-RO" sz="1800" spc="-1" strike="noStrike">
                <a:solidFill>
                  <a:srgbClr val="ffffff"/>
                </a:solidFill>
                <a:latin typeface="Book Antiqua"/>
              </a:rPr>
              <a:t>Şi-or fi, în neamul românesc,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Book Antiqua"/>
              </a:rPr>
              <a:t>         </a:t>
            </a:r>
            <a:r>
              <a:rPr b="0" lang="ro-RO" sz="1800" spc="-1" strike="noStrike">
                <a:solidFill>
                  <a:srgbClr val="ffffff"/>
                </a:solidFill>
                <a:latin typeface="Book Antiqua"/>
              </a:rPr>
              <a:t>Căci rupţi sunt ca din tare stâncă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Book Antiqua"/>
              </a:rPr>
              <a:t>         </a:t>
            </a:r>
            <a:r>
              <a:rPr b="0" lang="ro-RO" sz="1800" spc="-1" strike="noStrike">
                <a:solidFill>
                  <a:srgbClr val="ffffff"/>
                </a:solidFill>
                <a:latin typeface="Book Antiqua"/>
              </a:rPr>
              <a:t>Românii ori şi unde cresc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Book Antiqua"/>
              </a:rPr>
              <a:t>          </a:t>
            </a:r>
            <a:r>
              <a:rPr b="0" lang="ro-RO" sz="1800" spc="-1" strike="noStrike">
                <a:solidFill>
                  <a:srgbClr val="ffffff"/>
                </a:solidFill>
                <a:latin typeface="Book Antiqua"/>
              </a:rPr>
              <a:t>E viţa noastra faurita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Book Antiqua"/>
              </a:rPr>
              <a:t>          </a:t>
            </a:r>
            <a:r>
              <a:rPr b="0" lang="ro-RO" sz="1800" spc="-1" strike="noStrike">
                <a:solidFill>
                  <a:srgbClr val="ffffff"/>
                </a:solidFill>
                <a:latin typeface="Book Antiqua"/>
              </a:rPr>
              <a:t>De doi barbaţi cu braţe tari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Book Antiqua"/>
              </a:rPr>
              <a:t>          </a:t>
            </a:r>
            <a:r>
              <a:rPr b="0" lang="ro-RO" sz="1800" spc="-1" strike="noStrike">
                <a:solidFill>
                  <a:srgbClr val="ffffff"/>
                </a:solidFill>
                <a:latin typeface="Book Antiqua"/>
              </a:rPr>
              <a:t>Şi cu voinţa oţelită,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Book Antiqua"/>
              </a:rPr>
              <a:t>          </a:t>
            </a:r>
            <a:r>
              <a:rPr b="0" lang="ro-RO" sz="1800" spc="-1" strike="noStrike">
                <a:solidFill>
                  <a:srgbClr val="ffffff"/>
                </a:solidFill>
                <a:latin typeface="Book Antiqua"/>
              </a:rPr>
              <a:t>Cu minţi deştepte,inimi mari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Book Antiqua"/>
              </a:rPr>
              <a:t>          </a:t>
            </a:r>
            <a:r>
              <a:rPr b="0" lang="ro-RO" sz="1800" spc="-1" strike="noStrike">
                <a:solidFill>
                  <a:srgbClr val="ffffff"/>
                </a:solidFill>
                <a:latin typeface="Book Antiqua"/>
              </a:rPr>
              <a:t>Şi unu-i Decebal cel harnic,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Book Antiqua"/>
              </a:rPr>
              <a:t>          </a:t>
            </a:r>
            <a:r>
              <a:rPr b="0" lang="ro-RO" sz="1800" spc="-1" strike="noStrike">
                <a:solidFill>
                  <a:srgbClr val="ffffff"/>
                </a:solidFill>
                <a:latin typeface="Book Antiqua"/>
              </a:rPr>
              <a:t>Iar celălalt Traian cel drept,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Book Antiqua"/>
              </a:rPr>
              <a:t>          </a:t>
            </a:r>
            <a:r>
              <a:rPr b="0" lang="ro-RO" sz="1800" spc="-1" strike="noStrike">
                <a:solidFill>
                  <a:srgbClr val="ffffff"/>
                </a:solidFill>
                <a:latin typeface="Book Antiqua"/>
              </a:rPr>
              <a:t>Ei pentru vatra lor, amarnic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Book Antiqua"/>
              </a:rPr>
              <a:t>          </a:t>
            </a:r>
            <a:r>
              <a:rPr b="0" lang="ro-RO" sz="1800" spc="-1" strike="noStrike">
                <a:solidFill>
                  <a:srgbClr val="ffffff"/>
                </a:solidFill>
                <a:latin typeface="Book Antiqua"/>
              </a:rPr>
              <a:t>Au dat cu-atâţia duşmani piept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Book Antiqua"/>
              </a:rPr>
              <a:t>                      </a:t>
            </a:r>
            <a:r>
              <a:rPr b="0" lang="ro-RO" sz="1800" spc="-1" strike="noStrike">
                <a:solidFill>
                  <a:srgbClr val="ffffff"/>
                </a:solidFill>
                <a:latin typeface="Book Antiqua"/>
              </a:rPr>
              <a:t>(Pui de lei, de I.S.Neniţescu)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Book Antiqua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ffffff"/>
                </a:solidFill>
                <a:latin typeface="Book Antiqua"/>
              </a:rPr>
              <a:t>Mihai Viteazul a fost primul domnitor care a unit cele trei ţări româneşti: Moldova, Ţara Românească şi Ardealul, intre anii 1600 şi 1601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9" name="Content Placeholder 4" descr="http://www.clopotel.ro/enciclopedia/resources/File/istorie/mihai%20viteazu.jpg"/>
          <p:cNvPicPr/>
          <p:nvPr/>
        </p:nvPicPr>
        <p:blipFill>
          <a:blip r:embed="rId2"/>
          <a:stretch/>
        </p:blipFill>
        <p:spPr>
          <a:xfrm>
            <a:off x="5429160" y="1928880"/>
            <a:ext cx="314352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itle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647960" y="1600200"/>
            <a:ext cx="435276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41800" indent="-40680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A plecat  cu oastea 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şi n-a mai venit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........................................................................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Un orologiu sună noaptea jumătate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La castel, în poartă oare cine bate?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400"/>
              </a:spcBef>
              <a:buClr>
                <a:srgbClr val="f9f9f9"/>
              </a:buClr>
              <a:buSzPct val="65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Eu sunt, bună maică, fiul tău dorit,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Eu, şi de la oaste ma întorc rănit. 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Soarta noastră fuse cruda astă dată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Mica mea oştire fuge sfărâmată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................................................................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400"/>
              </a:spcBef>
              <a:buClr>
                <a:srgbClr val="f9f9f9"/>
              </a:buClr>
              <a:buSzPct val="65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Ce spui tu, străine? Ştefan e departe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Braţul său prin taberi mii de morţi împarte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........................................................................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Dacă tu eşti Ştefan cu adevărat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.......................................................................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Du-te la oştire, pentru ţară mori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Şi-ţi va fi mormântu-ncoronat cu flori!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             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(Mama lui Şt.Mare, D. Bolintineanu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2" name="Content Placeholder 6" descr="http://www.timpultau.ro/UserFiles/photo/MirceatheElder_03162310.jpg"/>
          <p:cNvPicPr/>
          <p:nvPr/>
        </p:nvPicPr>
        <p:blipFill>
          <a:blip r:embed="rId2"/>
          <a:stretch/>
        </p:blipFill>
        <p:spPr>
          <a:xfrm>
            <a:off x="1285920" y="2214720"/>
            <a:ext cx="2571840" cy="3286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6840" y="1213920"/>
            <a:ext cx="39006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44720" y="1428840"/>
            <a:ext cx="404172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o-RO" sz="1400" spc="-1" strike="noStrike">
                <a:solidFill>
                  <a:srgbClr val="ffffff"/>
                </a:solidFill>
                <a:latin typeface="Book Antiqua"/>
              </a:rPr>
              <a:t>A ÎNFĂPTUIT MICA UNIRE DINTRE MOLDOVA ŞI ŢARA ROMÂNEASCĂ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o-RO" sz="1400" spc="-1" strike="noStrike">
                <a:solidFill>
                  <a:srgbClr val="ffffff"/>
                </a:solidFill>
                <a:latin typeface="Book Antiqua"/>
              </a:rPr>
              <a:t>PRIMUL DOMNITOR AL PRINCIPATELOR UNITE ŞI AL STATULUI NAŢIONAL ROMÂNIA 1859-1862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6840" y="1571400"/>
            <a:ext cx="404028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Book Antiqua"/>
              </a:rPr>
              <a:t>Hai să dăm mână cu mână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Book Antiqua"/>
              </a:rPr>
              <a:t>Cei cu inima română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Book Antiqua"/>
              </a:rPr>
              <a:t>Să-nvârtim hora frăţiei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Book Antiqua"/>
              </a:rPr>
              <a:t>Pe pământul României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Book Antiqua"/>
              </a:rPr>
              <a:t>              </a:t>
            </a:r>
            <a:r>
              <a:rPr b="0" lang="ro-RO" sz="2400" spc="-1" strike="noStrike">
                <a:solidFill>
                  <a:srgbClr val="ffffff"/>
                </a:solidFill>
                <a:latin typeface="Book Antiqua"/>
              </a:rPr>
              <a:t>(V. Alecsandri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7" name="Content Placeholder 6" descr="http://www.presidency.ro/include/romania/80/alexandru_ioan_cuza-mic.jpg"/>
          <p:cNvPicPr/>
          <p:nvPr/>
        </p:nvPicPr>
        <p:blipFill>
          <a:blip r:embed="rId2"/>
          <a:stretch/>
        </p:blipFill>
        <p:spPr>
          <a:xfrm>
            <a:off x="5429160" y="3357720"/>
            <a:ext cx="2330640" cy="2928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itle 1" descr=""/>
          <p:cNvPicPr/>
          <p:nvPr/>
        </p:nvPicPr>
        <p:blipFill>
          <a:blip r:embed="rId1"/>
          <a:stretch/>
        </p:blipFill>
        <p:spPr>
          <a:xfrm>
            <a:off x="450720" y="85680"/>
            <a:ext cx="3524400" cy="9320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42560" y="1523880"/>
            <a:ext cx="35002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929040" y="272520"/>
            <a:ext cx="4757760" cy="58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36400" indent="-402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Book Antiqua"/>
              </a:rPr>
              <a:t>Ţara mea are lanuri mănoase,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Book Antiqua"/>
              </a:rPr>
              <a:t>Dealuri înalte pline de flori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Book Antiqua"/>
              </a:rPr>
              <a:t>Apele limpezi şi răcoroase,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Book Antiqua"/>
              </a:rPr>
              <a:t>Cerul albastru fără de nori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Book Antiqua"/>
              </a:rPr>
              <a:t>Ţara noastră nu e ţară de vânzar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Book Antiqua"/>
              </a:rPr>
              <a:t>Patria străbună e nemuritoare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Book Antiqua"/>
              </a:rPr>
              <a:t>Chiar de valul vieţii trece peste noi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Book Antiqua"/>
              </a:rPr>
              <a:t>Noi trăim în lume liberi şi eroi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1" name="Picture 4" descr="http://www.calificativ.ro/_files/Image/news/romania%5B1%5D-18049.jpg"/>
          <p:cNvPicPr/>
          <p:nvPr/>
        </p:nvPicPr>
        <p:blipFill>
          <a:blip r:embed="rId2"/>
          <a:stretch/>
        </p:blipFill>
        <p:spPr>
          <a:xfrm>
            <a:off x="357120" y="2000160"/>
            <a:ext cx="2928960" cy="2214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6840" y="1535040"/>
            <a:ext cx="43290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Book Antiqua"/>
              </a:rPr>
              <a:t>DIN  1990  ESTE  IMNUL  ROMÂNIEI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6840" y="2361960"/>
            <a:ext cx="404028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41800" indent="-406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Book Antiqua"/>
              </a:rPr>
              <a:t>Deşteaptă-te, române, din somnul cel de moarte,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Book Antiqua"/>
              </a:rPr>
              <a:t>În care te-adânciră barbarii de tirani!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Book Antiqua"/>
              </a:rPr>
              <a:t>Acum ori niciodată, croieşte-ţi altă soartă,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Book Antiqua"/>
              </a:rPr>
              <a:t>La care să se-nchine şi cruzii tăi duşmani!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6" name="Content Placeholder 6" descr="http://2.gvt0.com/vi/LTAnlHLTtKY/default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57880" y="2428920"/>
            <a:ext cx="2928960" cy="2928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14:56:38Z</dcterms:created>
  <dc:creator>Maria</dc:creator>
  <dc:description/>
  <dc:language>en-US</dc:language>
  <cp:lastModifiedBy>Maria</cp:lastModifiedBy>
  <dcterms:modified xsi:type="dcterms:W3CDTF">2009-12-14T17:43:02Z</dcterms:modified>
  <cp:revision>10</cp:revision>
  <dc:subject/>
  <dc:title>ŢARA MEA</dc:title>
</cp:coreProperties>
</file>